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5DE-6C32-4955-919E-0E719921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787-A5A1-403E-A905-8B0EE056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348-3CE1-49C2-9744-4FF62EFE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F07A-B437-41C0-B190-0232AAC3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949-9F3B-4288-873C-3ADB769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9DA-BC2B-4390-8567-131BCEA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1917-CB48-4157-B6F1-53067EF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852-6A03-4851-83B4-E1AFC10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448-81D6-476E-84E4-338CAA4E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006-502C-462B-9308-36D5131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FE4-0ADC-410A-AC4E-2741D224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815-E254-446E-B226-69C0459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D2FF-947F-4029-A79B-8DA7E36635D7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music.ed.ac.uk/Research/imhsd/Workshop2007/images/HerstmonceuxCastle.jpg"/>
          <p:cNvPicPr/>
          <p:nvPr/>
        </p:nvPicPr>
        <p:blipFill>
          <a:blip r:embed="rId1"/>
          <a:stretch/>
        </p:blipFill>
        <p:spPr>
          <a:xfrm>
            <a:off x="615960" y="993600"/>
            <a:ext cx="7821720" cy="996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Y CASTL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9. Draw flags on top of all the poles on the ro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286000"/>
            <a:ext cx="850104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ur finished so its time to colour in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the finished produ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0" r="0" b="4351"/>
          <a:stretch/>
        </p:blipFill>
        <p:spPr>
          <a:xfrm>
            <a:off x="950760" y="1600200"/>
            <a:ext cx="724248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Open Google Sketchup and make a squ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Pull the square up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Draw 2 rectangles on both sides and pull dow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a rectangle for the door and pull it out, also draw a long skinny rectangle on the bottom of the base castle and pull tha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Pull out the bottom of the castle to make a bridge then pull out little rectangles off the bottom of the bri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. On the top of the castle drw a rectangle on each side and pull them uo then draw a circle in the middle and pull it 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7. Do the same on the other s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. Draw two poles on the front of the cas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23:54:14Z</dcterms:created>
  <dc:creator>Diocesan School for Girls</dc:creator>
  <dc:description/>
  <dc:language>en-US</dc:language>
  <cp:lastModifiedBy>Diocesan School for Girls</cp:lastModifiedBy>
  <dcterms:modified xsi:type="dcterms:W3CDTF">2009-09-01T22:11:13Z</dcterms:modified>
  <cp:revision>10</cp:revision>
  <dc:subject/>
  <dc:title>MY CASTLE!</dc:title>
</cp:coreProperties>
</file>